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F28E-0184-431F-B519-FF14DCB5D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F166-F8C8-42F8-8482-DE07AB06E4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F985-64E4-4AAB-A27A-F468E1B27A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0BBD-99C0-4118-BF7D-C6E261228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E395-D019-4770-A622-F129FED8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2B5B-ED9B-42D1-B01D-2B9A7AAB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4703-B97E-4F2B-B77C-B727494C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D7E2-1534-431B-BEFF-5A89797B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44BA-43C5-4D15-84BE-25BC0F87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FDA6-46C1-4EB9-8E09-238DD29F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B3C2-31DC-428C-A5FC-D8968016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34EE-1217-4F42-9CE1-813AF591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A1BF-CEB3-4EEF-9F56-0F415630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A2DC-C94C-42C2-BEEB-E0B41879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A4A9-A379-4B1D-AF8A-A0A3A306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9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9505-1DC8-4AF9-8332-6ED61C440B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6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71247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112480" y="4648320"/>
            <a:ext cx="4575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 Placeholder 2"/>
          <p:cNvSpPr/>
          <p:nvPr/>
        </p:nvSpPr>
        <p:spPr>
          <a:xfrm>
            <a:off x="2438280" y="3733920"/>
            <a:ext cx="457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Implementation Strate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ngagement with farmers and part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fication of roles (incl. limited nature of engagement) and expec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selection should be inclusive and transpar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perational issues emerging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ngagement with farmers and part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entive mechani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y sensitive matter that needs to be handled carefully (basically no handing out money to participants when they come to training meetings in the villag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ensation guidelines for events such as training outside the village, exchange visits have guidelines that we need to follow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 actors may be doing it, but we need to avoi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s (not free, but we need to hear from the experienced partner, NAFAKA on how this is done from this ang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eam eng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tual resp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 communication ( and feedback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bcontractors should follow engagement standard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NAFAKA 2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ffing in NAFAKA original locations (Zone 1) and new locations (Zone 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ographical fit of the partnership projec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it from locations where NAFAKA is not presen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Gill Sans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453" name="Group 1"/>
          <p:cNvGrpSpPr/>
          <p:nvPr/>
        </p:nvGrpSpPr>
        <p:grpSpPr>
          <a:xfrm>
            <a:off x="1066680" y="4444920"/>
            <a:ext cx="7012080" cy="2154240"/>
            <a:chOff x="1066680" y="4444920"/>
            <a:chExt cx="7012080" cy="2154240"/>
          </a:xfrm>
        </p:grpSpPr>
        <p:pic>
          <p:nvPicPr>
            <p:cNvPr id="454" name="Picture 2" descr=""/>
            <p:cNvPicPr/>
            <p:nvPr/>
          </p:nvPicPr>
          <p:blipFill>
            <a:blip r:embed="rId1"/>
            <a:stretch/>
          </p:blipFill>
          <p:spPr>
            <a:xfrm>
              <a:off x="1066680" y="5819760"/>
              <a:ext cx="685800" cy="7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11" descr="P:\logos\c\cimmyt\CIMMYT Logo.jpg"/>
            <p:cNvPicPr/>
            <p:nvPr/>
          </p:nvPicPr>
          <p:blipFill>
            <a:blip r:embed="rId2"/>
            <a:stretch/>
          </p:blipFill>
          <p:spPr>
            <a:xfrm>
              <a:off x="7117920" y="5057280"/>
              <a:ext cx="960840" cy="7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2" descr="P:\logos\i\ICRISAT\icrisat-logo.jpg"/>
            <p:cNvPicPr/>
            <p:nvPr/>
          </p:nvPicPr>
          <p:blipFill>
            <a:blip r:embed="rId3"/>
            <a:stretch/>
          </p:blipFill>
          <p:spPr>
            <a:xfrm>
              <a:off x="4509720" y="6036480"/>
              <a:ext cx="1507320" cy="56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Picture 6" descr="AVRDC – The World Vegetable Center — avrdc.org"/>
            <p:cNvPicPr/>
            <p:nvPr/>
          </p:nvPicPr>
          <p:blipFill>
            <a:blip r:embed="rId4"/>
            <a:srcRect l="0" t="0" r="63858" b="0"/>
            <a:stretch/>
          </p:blipFill>
          <p:spPr>
            <a:xfrm>
              <a:off x="1066680" y="5148360"/>
              <a:ext cx="1967040" cy="53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7" descr="P:\logos\i\iita\IITA_regular-sienna_with slogan (2).JPG"/>
            <p:cNvPicPr/>
            <p:nvPr/>
          </p:nvPicPr>
          <p:blipFill>
            <a:blip r:embed="rId5"/>
            <a:stretch/>
          </p:blipFill>
          <p:spPr>
            <a:xfrm>
              <a:off x="4190760" y="4444920"/>
              <a:ext cx="1123200" cy="56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Picture 14" descr=""/>
            <p:cNvPicPr/>
            <p:nvPr/>
          </p:nvPicPr>
          <p:blipFill>
            <a:blip r:embed="rId6"/>
            <a:stretch/>
          </p:blipFill>
          <p:spPr>
            <a:xfrm>
              <a:off x="4145400" y="5191200"/>
              <a:ext cx="1569240" cy="67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6-07-05T05:51:43Z</dcterms:modified>
  <cp:revision>19</cp:revision>
  <dc:subject/>
  <dc:title>PowerPoint Presentation</dc:title>
</cp:coreProperties>
</file>